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D92C-97F3-4C72-9A1E-92A82D1D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C7C9-E996-4E76-84F5-8F6FD815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9226-6FC3-4CD5-B97D-13EDE85F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200D-8A36-4F08-9975-5D831919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F455-F0D6-457F-882E-8CCB5B79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3A56-C4CD-4D8B-B835-1F5868D8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5EF4-3BCE-40DF-9545-A409D5A7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446E-1E66-44AB-9E4F-54F70522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9DE1-E33B-4D3B-84C6-BD631692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9272-F665-457E-AE25-F3BD713E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6658-7955-432E-8D56-695AD6E7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506F-EF76-46E9-AC8C-49AE2E78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2730-3EF4-46DC-B4C1-0B1A8C73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54A3-8B31-4D37-9043-6C11A044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04E2-FD3E-4D7C-9527-8151F529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3233-9AC2-4FEC-9DEA-0414850E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06E0-AD96-4178-B6A0-D2A55DB5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AF41E-B2C4-44E3-A188-2D286642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2CAF8-F629-4F86-A4DD-728702C9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0EA0F-B0D4-4C6B-9347-DD9164CF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D5A43-35CD-4101-A449-D0DB9DDC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0040A-268D-44AE-AA4B-8D26FA40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2AD1-4793-4DD9-851A-5995A3C1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934D5-C21D-4C77-83D9-EB1EAB98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A13BE-95D3-46BE-9B29-A66A1A72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23161-3705-452C-857A-53580606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60DCD-A912-446B-B6E9-1EA505A0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25F26-45E1-474D-AE69-CFD1F6BC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6B3C9-5C60-4A9D-821C-398E5BDD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A93F1-C90B-49CF-9D7E-642E9485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65019-4AD1-4F15-974D-DCF58A14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8EEA8-9389-4F5E-B05B-3C1E8656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F5D8C-961F-4CA8-A062-BBC0C746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A03D-BFC1-440F-8862-6411049A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6C028-C910-4926-B6F6-FB718B76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F029D-73D2-4B14-8861-E53D3FF9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29A6D-47F0-4C15-938B-E960C20A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9E0EA-24DC-4417-B32A-ADFE0DE7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5527F-468B-4C21-9DC7-D4A56E38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B49A0-3A69-4115-A231-D756671B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73A2E-4CB6-4C85-A041-0C39C872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68FE6-C96A-4540-8350-3A8508F1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654AC-754B-4D2B-BCC0-587F9BDC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48F1-C4F8-4992-897A-48C4E72E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809B-037B-49DA-8F22-2F482139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CEE0-41F4-4E9F-BE68-47E52659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11E-2A6C-4D76-A75E-4B103106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DC91-F320-4E60-8D9E-7B15D3BA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2610-F672-46F4-A838-C5823E3776F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70B4-2E57-4F6E-8DC5-1D5E735F4D6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EE9B-F8CA-4D6A-9B4A-1F8F9638A2C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8E61-5FFB-4863-8D10-C988196F4BD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822240" y="1663560"/>
            <a:ext cx="7188120" cy="19814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571760" y="285768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ение и вычитание единиц времен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857760" y="428616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сеньева Елена Никола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банева Татьяна Юрь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Гимназия № 24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 февраля 202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179280" y="765000"/>
          <a:ext cx="8785440" cy="399132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15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2751120" y="1644480"/>
            <a:ext cx="3641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2"/>
          <p:cNvSpPr/>
          <p:nvPr/>
        </p:nvSpPr>
        <p:spPr>
          <a:xfrm>
            <a:off x="250920" y="836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641520" y="1663560"/>
            <a:ext cx="8137440" cy="18385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611280" y="404640"/>
            <a:ext cx="799632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Лидово в Кузьминки можно проехать на автобусе с пересадкой в Марьино или в Сергеевке. Время движения автобуса между этими посёлками указано на схеме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641520" y="386064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путь надо выбрать, чтобы успеть на поезд, отправляющийся из Кузьминок в 13 ч 15 мин, если известно, что автобусы отправляются из Лидово в 10 ч, при этом в Марьино приходится ждать автобуса 5 мин, а в Сергеевке – 15 мин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Прямоугольник 3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3:37:19Z</dcterms:created>
  <dc:creator>User1</dc:creator>
  <dc:description/>
  <dc:language>en-US</dc:language>
  <cp:lastModifiedBy>USER2</cp:lastModifiedBy>
  <cp:lastPrinted>2014-02-18T18:03:24Z</cp:lastPrinted>
  <dcterms:modified xsi:type="dcterms:W3CDTF">2023-02-21T12:23:39Z</dcterms:modified>
  <cp:revision>54</cp:revision>
  <dc:subject/>
  <dc:title>Для чего нужна  экономика?</dc:title>
</cp:coreProperties>
</file>