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21C-77E3-42B3-BC71-41EC1E7F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17EB-5EB5-4619-8B32-0FA64DE2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95EBA7-7728-429B-9BDA-0F0F200E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0A1A46-D1F7-49B9-AF88-AB5FDCCB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F9FD12-E586-44D8-8440-1B8068F2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4BAD93-78C0-407E-89E9-74D2B54B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18E876-F897-47E2-977B-6E6294A5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D135D6-1980-4C62-BFE5-BEDE8464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A634F6-D831-47D3-9769-CF738325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97AC9E-8D1A-4C41-AE7D-47BACD7A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FC7384-B7F2-4566-B0F1-B5D9CA23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FB6A97-A2D4-405A-B402-542AD2BA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90B7-AA91-45CC-8D66-46299B5C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1BB163-181B-4423-9F2C-6D70C98B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CA7459-2026-40BB-9F69-560B6FA9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3171A9-8424-4A61-B2DE-8389AED9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52D896-C314-47FA-B944-1F7C5158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AF289E-E750-4EAF-9D7B-5A599ECA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4D0616-9889-4869-AA44-97532C6F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F88ECB-708F-44D2-87F8-BC12DDD8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7C02A2-0A5B-4C30-BA7B-6A70C147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12DC13-B77F-4C86-9C3C-A56507B5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968904-B141-4AFE-9C1A-E9E29200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453D-08AB-45B9-B88D-C71F5395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4AEACC-C11E-48AF-AB0B-7908D54B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78276-7377-440D-8972-5733B170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2125C-52DD-4965-8D36-FD39FB44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48FAD-F4F2-4BC3-BAB2-044C72B5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4BC3B-EC4F-43E3-9F3E-786F45BE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1D809-6BE0-4857-B960-6D08F9EB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7603B-78FE-4D94-9811-F4D83D28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79C98-39AA-41B3-AAC3-B7A459FC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2DC09-DF90-48B8-AFC2-32BE586A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E0E06-1465-459B-BA41-2CEE4B98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322D-5AE8-4295-B91B-16A686AD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B3D27-C79B-4748-B0A0-F5BF882E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877E0-8DFD-4E39-AE30-F116BFF3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922B4-65F3-47E5-88B9-E84B7AFE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01E29C-6C97-4DD9-8DD5-BB981166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D2FBD9-C453-4E3C-93B4-E03E1329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2852A1-2F70-4CA8-9A0A-1DAF14AE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7BEBB0-5ADA-4E6D-A878-EBD9E401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3A1684-C90C-437A-A335-21259C34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B7A441-0527-44E3-B301-FBFFAB75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BC74A2-2385-459C-B856-219426C2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B7F6-9B07-46FD-82F1-079E377E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B8F65A-B0E6-4E7A-89F5-BDFDBC11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7F23AB-6A40-4280-8659-E2E7E853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8C0E2C-7875-490A-A156-3610AD3D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EA714F-FFC4-4C53-9DA5-C6B2575D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AE06EF-9CBB-4628-8D8C-10D22444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AF51-5BC2-4C3D-A35C-119D7B60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6546-11B2-458E-9039-6C8C3143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F04A-E720-4A0E-A62E-231AE42E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CBFE-3ED5-4D0D-9E28-A4778CE2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B1B9-735E-44D6-80BB-766DD7A2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6A1-ED1A-494A-B6F9-A4D4A1D2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833A-DB80-4A3A-93E8-502CC104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AEF4-3D54-4120-A333-F90842D0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FE79-3627-4DE0-B5F4-F95132FC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7889-19F5-47A2-A2F3-A4A1E528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8B6A-D256-4637-A148-1ED78F7E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B1C2D-4455-4C38-8EDC-E322D0C0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DEAFD-25DD-4259-8DA8-5BCDD427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130B0-9A67-4E58-8A0C-3DA2584A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55152-C024-47A1-9AD6-A37BD75C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6ED55-B228-458C-ABA7-5B9633E5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0E16-9160-4383-A1E7-8DFB7F2B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05378-895F-4777-A2AC-57DE8C13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35F95-B0C4-4601-A1E4-D8F5D776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A1AEF-CF57-471B-B6A5-B41900F7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44AB0-84BD-483C-A75E-FC46E10F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4B612-8970-4CFC-B728-E5D8B382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1AF29-99E7-4C5A-AB55-785E0467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636E6-857A-4CD7-B634-14854094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AD44C-0D7F-45FB-9CAF-705E94536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5C923-51C6-499A-984B-C572B34B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F98CB-55ED-4015-82E6-0B02E20A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FD81-7E9E-4CA7-8A4C-77CB3091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7DF05-B8C8-4B77-AEE1-3762BDA1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6D99A-7A13-4412-BD3D-9BE6AD76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338F0-6867-4382-8B35-A33A1EE0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0DC6E-F781-4060-8331-509DCA7D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AB367-DA07-4ACA-A637-22456959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A2D67-061A-47C0-AC93-508D9765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70461-9095-41CD-B264-22448CE4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1AFC9-487B-48A2-B4B1-082FC37C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E223A-B0EF-4F0D-868B-5AF60A56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36FBD-DE4B-480D-8724-DA17B8E6C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07F5-A80E-4FAF-A80F-9A9A4031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58636-D948-4571-99BD-853770CE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6907C-AE15-4B81-AC84-62D68C93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76597-ABAE-426B-AA73-F20CA980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40932-E192-4B29-8A96-8AA81928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333CB-4825-4FF9-ABD9-7C7DABC4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1B231-7924-4E5F-964B-8B5FD3C2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5FB39-BA51-4636-A037-84C0013F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C1B3A-6B45-4144-BDB0-F4721A1A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94D1C-43A4-4A05-A27D-28E2B2E5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07CCE-4E36-4567-A013-DEDC7992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B97F-BF50-4DE0-B87A-157D8AFA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C1EF9-54E1-4A4E-A037-B1B2CC1F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1F900-74A9-4745-8EB6-D40A1EF9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89014-2437-4C04-9B1E-78F4C931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92D14-340E-4FF2-9D87-60D455BE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03334-707F-4B67-A7BD-80EEAE87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46BA8-7FCA-4FD9-8DE4-604C9972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E3069-D4B9-4003-97CA-81205944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E902F-6A26-4A11-9C1A-8B6B8213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3806D-DDEC-4606-8C68-AF807D5C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2C1F2-33D1-4895-822E-0C4AE1DD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B0A6-B4DE-47C0-8771-B6CECC24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BA435-0638-4EE5-8162-901B5F67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BC575-5732-402B-A3E7-3F222543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440DE-EAB0-41B7-BC7B-FCF41ECD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013D5-3D5E-4FEE-955D-F0A62EB4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99BF8-0B82-4BA7-8A4E-F8D774F0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AA1E6-C5F5-4E9B-AD15-02DD3354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0CF56-7296-4B98-A901-47E23631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1D8A9-59AC-4B34-8B98-4ECCBDD5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A5A23-7DF7-4DC6-8A3F-2A6FD823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D2C47-556D-43A2-BE92-675BEEE6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5FCA-0240-4A55-A5BF-113518FF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4B4DE-186F-4A48-931C-30A17041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81E82-76F4-4FE7-BD1E-2EC5BB48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7ED99-AAA6-4345-88FD-5786DC8A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BC112-3BA2-48ED-A6B2-3672150D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9ADD1-9A64-4267-9724-288B2DA4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08D10-F5F4-4E17-8419-8BE79059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0E2CA-C73F-4BAA-9BD7-56F5FBDB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8FDA1-496B-4E73-96ED-B535CF51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73D8C-5E47-411A-BE68-A6FE65F4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3860B-C002-4106-8B38-DBFE2516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111E-4C66-4AB0-AE80-EEC05507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4897B-5D77-4467-9176-A70DAC25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E22EF-560C-4F96-A707-E7D0D93C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8F16F-27A9-4BC1-8420-34370D6C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D861D-3135-407F-8E7A-89525443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33FAD-80B5-46FB-9B87-7186FEE4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3B5F2-EF33-431B-8B1B-839B0E20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5C720-80F6-4F3B-8150-3549FFDD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E3E50B-75E9-4E39-906B-1C649186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EC198A-B7F4-49E1-A0AA-2C9CCD89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EDD725-DE92-4DD6-89AA-07478ECA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CCFE-3EBD-4320-9B1D-BBD70CD2E9D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D683-3B61-4ACD-8C2A-235DCEC92E2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5F84-33B9-4E37-A6D2-C5D70978AA6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CA41-DD07-452C-8D6A-310E57B0673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CE22-5AE5-471D-839C-95AF9D35A4C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F442-B585-4BED-8593-B710FFBAD9C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D7B5-BAB5-4F20-84EF-19C3C22D4D9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36DD-642C-41DD-AAB3-F392F932D1A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8DC7-F400-4E20-9E5C-A71BB1FFFF7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BC32-C14E-4436-93A7-EA2E4916E56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DD93-8275-4CAC-BDE2-12FCFE292C8A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EEAA-0F23-4C01-B0A5-BCF012DAFE4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779640" y="4941720"/>
            <a:ext cx="45781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НЕЧИТАЙЛО И.Н., ПРОНЕР М.А. УЧИТЕЛЯ НАЧАЛЬНЫХ КЛАСС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402920" y="2205000"/>
            <a:ext cx="70549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аспродажи, скидки. </a:t>
            </a:r>
            <a:br>
              <a:rPr sz="4200"/>
            </a:b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ешение задач.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Рисунок 4" descr="скидки.jpg"/>
          <p:cNvPicPr/>
          <p:nvPr/>
        </p:nvPicPr>
        <p:blipFill>
          <a:blip r:embed="rId1"/>
          <a:stretch/>
        </p:blipFill>
        <p:spPr>
          <a:xfrm>
            <a:off x="539640" y="476280"/>
            <a:ext cx="3095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395280" y="549360"/>
          <a:ext cx="8353440" cy="547200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0040"/>
                <a:gridCol w="1671480"/>
              </a:tblGrid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ы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 39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 5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з ски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в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не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9T12:14:11Z</dcterms:created>
  <dc:creator>Дом</dc:creator>
  <dc:description/>
  <dc:language>en-US</dc:language>
  <cp:lastModifiedBy>User</cp:lastModifiedBy>
  <dcterms:modified xsi:type="dcterms:W3CDTF">2023-02-21T12:12:38Z</dcterms:modified>
  <cp:revision>19</cp:revision>
  <dc:subject/>
  <dc:title>Распродажи, скидки.  Решение задач.</dc:title>
</cp:coreProperties>
</file>