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63D7-2785-4979-B36C-E1368DA63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12A4-B6CF-4ADB-ACDE-4C985B1E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828DD3-F94B-48A5-94C2-E55FB4BC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8DDB57-1417-4BD9-B1AF-FB138808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39B307-A8BF-44B1-9345-3BAB4718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3C7BDD-D379-4F64-AEAB-554A0AD9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62B438-3FD4-4AD1-B9B1-53DECDC6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A75AFB-7335-41EE-9D35-C10ECB61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3D8628-8663-4B12-AA8B-90673E38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234EAC-9D63-4810-A1E2-62F4AE7AF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2B9688-BA7C-4302-947A-9B1AC9C9B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922B9D-3DBF-4E00-BEDA-2A273B6E1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D6D4-865F-42D1-8366-809EAB467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C531F0-8ECA-47C5-9842-776421C1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31143B-D901-4B09-958B-911D1303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408829-31F4-4A86-A952-FB404698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40E7D5-2816-43B6-A7A9-F895B6E7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6E5CC3-0CC1-4C06-8B9E-19A0C617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E11099-1153-426F-958D-CDBFA5E5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1D2AD9-AF53-40C2-AEE4-EDF12E78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2D2254-C875-4223-BD17-060A977E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AF5B28-919D-42B8-92C2-F75567C7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C058D7-3DA2-461B-BE40-3764C5A8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F7D0-1885-4EC6-ACAC-0E1B88672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B9EAD8-8A93-4AFA-B427-745A4B88A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3B2F2-F1B1-4307-95E8-174A76C2D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F586F-9EB3-4B39-8A03-5D0E41E3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46862-BB72-4362-B36A-4DE6F999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3A40F-FE2E-41FD-8C88-43EFC7F1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ECC95-82CE-476C-B3B4-0AC0CD8B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41B83-BDCD-4BEE-9C58-45558D4E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DD145-9559-4A92-9127-65C07B36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A85A3-9EF3-4C14-8147-28232739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6B4B8-24F4-472D-8BAB-83B8E26D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AA44-4700-4129-80C2-8D966E34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7CF5D-A5D1-46AA-B7E2-C72EA475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C9C8C-EBC6-4E59-82A9-1FB42542E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9E415-CBE7-4E6B-92B0-B927A7A5F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7F736D-FF89-4EF4-B87D-C50C46C88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8B76DA-F02D-449D-BB40-01632E31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4FC778-6797-4A88-84A6-0FA89C01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419FF3-2522-46B9-876F-7B30036B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93FAB1-BAF2-49B9-A7B1-253C1070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3074BF-FF5C-4311-9796-006BFD26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FC00CF-835D-45B6-85F7-EC938C43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C9F3-DF56-47A3-BEDE-BFAC90EB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7B0E88-0B61-4611-8682-C8A5B832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25D77B-D745-4F79-A4CD-303B3A9A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1BFF37-1D78-4A57-A400-42EC67B9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90F506-8846-4CC6-B475-457568473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8879A6-807B-4499-8DE8-B2C5A6489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A969-0AF6-4AE5-885A-2D0A19C7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372A-0D93-4174-AD34-7F27BCED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76FF-8968-4C12-9CC2-DFCC04E2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BA66-E59E-42AE-8C1C-4CDD261F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425D-EBD8-4E31-A30F-3E6674CC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75E1-06DE-4B20-8266-53E30FC4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9F9D-1B78-4B79-BB34-6AFF18A2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B3AB-FCB0-4D7F-8942-30105E25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6D5A-0F2A-4AA3-A349-9E9EE03C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8E08-D3F6-45E1-9B59-F08585746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7FC2-431C-4929-8B56-ADFE6866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DBBB4-FFC3-4700-A12B-4675E9D4A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EC08C-8A91-4C81-B40B-F633E6F2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D7A7E-BC51-4B55-B190-ADED71D2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33219-4F0E-418C-9C23-B91FF962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A71A4-FC87-46B1-8B64-A6143929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25F9-F02D-4A3F-8864-665F2511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E156D-9EC8-4810-A918-31A46686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51202-3237-4628-92D4-26311C47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0F258-F660-4614-A2DE-B9D49F00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AABF2-50C0-4A92-A974-53C0F1C1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53C94-A69E-4710-A3B0-87FC9FFE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E0927-D2DE-45B2-88C2-053DB3B5A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122AB-933E-45C4-93B7-59F770C73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5ED98-20ED-4086-85C7-6A50EF483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2C630-E64B-47D3-9AB8-6B248EE8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B3A8D-C8C5-4A4A-9375-7D6531F4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737B-C8CB-4BE7-B00A-F0A02C2D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CDDC6-9C5D-45D9-868F-C7E26B8B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D371F-1456-4937-8419-CB61356E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68542-AF4C-4A0E-8A15-E6032BB8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80981-5852-40D4-95DC-CFFCE6F3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3250C-B89F-4684-86FE-EC935FDE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F49BD-22AB-4D51-950F-9CC27A30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5A726-D2C9-4452-BD6D-4C1B7813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29313-2E17-4BFC-A3CF-CF1D23300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4C767-999E-4EA8-8312-778FCCFAA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0AF81-2191-408C-B85B-AD1959DBD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3B4B-6438-4A53-8AC8-3341D20C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BEDF5-D306-4CEE-A7E2-52D710EB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4659F-F7A4-44EF-B16B-FA84D5C2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47FC3-00BE-4631-B6FE-75EE5316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C778F-095E-443A-804C-AE537989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35015-7A02-43FD-8E3E-DABA6E0D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EEF9E-BDCB-490E-BBF9-0ACF55FE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B2666-06B4-4833-8CC3-D495A790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45AA2-1B40-4143-A474-BED0001F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CD66F-740F-49AC-8DC3-C8287BE5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2156F-7464-4087-9731-14601E0B2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96B5-0FC8-45A0-8F17-3D696A8F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470E1-3781-49CE-AEC4-A403C5500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DA37D-4475-4285-A7B6-C333C0AF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3CB4C-EF9F-4F36-A577-5239532B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ED7F7-8784-475D-B815-67EDB42F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C0790-8594-47C5-801B-CE564E38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4EA13-599F-4DCD-A4D5-54CBC584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F1E43-2698-4346-B706-77BA95A7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0F44E-7A18-45B6-A714-E2F2F03A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11F16-C30A-4CDF-9C5D-4499C291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A97A6-D052-430A-BA07-A16E857E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3051-0405-44BA-8474-10B4F619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FE910-242D-4F48-9FFD-9045C56F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5BF4B-FF24-4496-93B1-35AF93FF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AF695-004F-4014-A9ED-E75BE0C4C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D9DC1-0131-46A6-B6F6-A98364388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0FA70-E7D1-498A-95EC-15AE454B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F2D0D-7642-4495-8399-DB00B09E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3CB5A-A2EB-4BE0-9AAA-34A5C3BC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38827-DA9E-4268-A2B9-5B51D050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CDCEB-FD0C-4168-84A7-564F5FDD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77B9F-C1B4-4DB1-97AF-C7CD5519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7D42-7EBE-414D-9AC0-90C5F035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8C8C9-B3F9-40C0-AC66-9B5A2B1D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B5033-BEF3-4E83-9D53-ECFF3C50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66D99-72E1-4C5B-8381-D821AD8A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F1E6A-8C25-4416-8C9D-0D715A2A8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54EFC-60B0-46C0-B316-38CE49316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11111-F6D9-4301-858D-7F3901A9F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BA4CC-D6DB-4788-9B7D-BA547DF9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DC704-B0C0-4812-BD86-E1A53DCE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0FFB7-AE14-4374-B0DC-DCC55B83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4DEBC-76B4-424E-80FD-83ACC10F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32BC-57E8-459F-9A19-1A558961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7EB32-5BD0-4531-BD70-9A0C0BEC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267F6-9FD4-4823-8552-7C18AEFC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2B1E5-ECA3-410C-967F-3C1BBEB9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9D012-B3E8-4393-85FF-373A63B9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9F5CE-3179-4514-86CE-79DE5766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C55F8-81DD-401C-90FE-F157BF55E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CE9E2-46EF-488F-A7D5-320ABB3FF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54CED1-D483-4716-9F34-38BF8CAD9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7BDB00-68DE-4483-B088-A29865BC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7332FE-3C0F-4CED-95C6-142BE886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58DC-6FAD-440C-863D-B5C0407C172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023A-24F0-4049-AD32-5F322AD4E92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D079-AFCC-48F7-8259-F399989A8B4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BD58-0144-4D4C-BDC8-EA81B20BE24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CFA6-AFEB-4B25-A3F5-1D0879C8FB4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1F19-D60D-4420-BBEC-CB0D518F65E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5CD1-B67C-4880-A5D3-AA05D131156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C5E9-AC7D-42FD-B823-E53A68AF284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B8D6-A3F8-432E-AB18-97B87BEB6F2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61BE-B72B-479C-9EB1-805EDFB347C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0DA6-AE68-4029-B7B7-96F21DC2963A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A7CA-B203-4666-A073-6DD49350C6E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3779640" y="4941720"/>
            <a:ext cx="457812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НЕЧИТАЙЛО И.Н., ПРОНЕР М.А. УЧИТЕЛЯ НАЧАЛЬНЫХ КЛАССОВ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1402920" y="2205000"/>
            <a:ext cx="705492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аспродажи, скидки. </a:t>
            </a:r>
            <a:br>
              <a:rPr sz="4200"/>
            </a:b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ешение задач.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Рисунок 4" descr="скидки.jpg"/>
          <p:cNvPicPr/>
          <p:nvPr/>
        </p:nvPicPr>
        <p:blipFill>
          <a:blip r:embed="rId1"/>
          <a:stretch/>
        </p:blipFill>
        <p:spPr>
          <a:xfrm>
            <a:off x="539640" y="476280"/>
            <a:ext cx="309564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395280" y="549360"/>
          <a:ext cx="8353440" cy="547200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400"/>
                <a:gridCol w="1670040"/>
                <a:gridCol w="1671480"/>
              </a:tblGrid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ы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 39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3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4 5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ез скид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в руб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не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19T12:14:11Z</dcterms:created>
  <dc:creator>Дом</dc:creator>
  <dc:description/>
  <dc:language>en-US</dc:language>
  <cp:lastModifiedBy>User</cp:lastModifiedBy>
  <dcterms:modified xsi:type="dcterms:W3CDTF">2023-02-21T12:12:38Z</dcterms:modified>
  <cp:revision>19</cp:revision>
  <dc:subject/>
  <dc:title>Распродажи, скидки.  Решение задач.</dc:title>
</cp:coreProperties>
</file>